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27C2-B0D5-483A-B158-3A7D6880D1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Asia exported camels which were very appreciated in China, military equipment, gold and silver, semi-precious stones and glass items. Samarkand made glass was especially valued due to its high quality. It was considered as luxury goods. Other goods were skins, wool, cotton fabrics, gold embroidery, exotic fruits – water-melons, melons and peaches; fat-tailed sheep and hunting dogs, leopards and lions. </a:t>
            </a:r>
            <a:br>
              <a:rPr sz="1200"/>
            </a:br>
            <a:r>
              <a:rPr b="0" lang="en-US" sz="1200" spc="-1" strike="noStrike">
                <a:solidFill>
                  <a:srgbClr val="000000"/>
                </a:solidFill>
                <a:latin typeface="Calibri"/>
              </a:rPr>
              <a:t>From China caravans carried the well-known Chinese china – snow-white vases, bowls, glasses, and dishes with graceful patterns. Only Chinese owned the secret of making the thinnest and resonant porcelain, therefore, it was very expensive in European markets. Bronze ornaments and other products from this metal, ornate bronze mirrors, umbrellas, products from the well-known Chinese varnish, medicines, and perfumery were also popular. Chinese paper, one of the most remarkable inventions of Chinese technical genius, was highly appreciated too. Gold, skins and many other things were exported as well. Merchants also carried tea and rice, woolen and flax fabrics, corals, amber and asbestos. The sacks of merchants were filled with ivory, rhino horns, turtle shells, spices, ceramic and iron items, glaze and cinnamon, ginger, bronze weapons and mirro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 was famous for its fabrics, spices and semi-precious stones, dyes, and ivory. Iran – for its silver products. Rome received spices, fragrances, jewels, ivory, and sugar and sent European pictures and luxury good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ern Europe imported rice, cotton, woolen and silk fabrics from Central Asia and exported considerable volumes of skins, furs, fur animals, bark for skin processing, cattle and slaves to Khoresm. Northern Europe was the source of furs, skins, honey and slav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5DB4-ECF1-4E01-B0EB-E6B4565B0B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rade intensified between Africa and Asia, powerful city-states flourished along the eastern coast of Africa. These included Kilwa, Sofala, Mombasa, Malindi, and others. The city-states traded with inland kingdoms like Great Zimbabwe to obtain gold, ivory, and iron. These materials were then sold to places like India, Southeast Asia, and China. These were Africa's exports in the Indian Ocean Trade. These items could be sold at a profit because they were scarce in Asian count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the same time, the East African city-states were buying items from Asia. Many residents of the city-states were willing to pay high prices for cotton, silk, and porcelain objects. These items were expensive because they were not available in Africa at the time. These were Africa's imports in the Indian Ocean T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ity-states along the eastern coast of Africa made ideal centers of trade. An important attraction was the gold obtained from inland kingdoms. The gold was needed mainly for coins, although it was also used for works of art, ornamentation on buildings, and jewelry. And, the city-states were easy to reach from Asia by ship because of the favorable wind and ocean currents. Ships had no trouble docking at the excellent ports and harbors located on the coasts of the city-states, making it easy to unload and load car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EB58-606F-43F0-9525-6DA5D9E018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enturies the Swahili depended greatly on trade from the Indian Ocean. The Swahili have played a vital role as middle man between east, central and south Africa, and the outside world. Trade contacts have been noted as early as 100 A.D. by early Roman writers who visited the East African coast in the first century. Trade routes extended across Tanzania into modern day Democratic Republic of the Congo, along which goods were brought to the coasts and were sold to Arab, Indian, and Portuguese traders and even reached as far as China and India. Materials attributed to this network of trade were also found at great Zimbabwe. During the economic culmination of the middle ages, ivory and slaves became a substantial source of revenue. Many slaves sold in Zanzibar ended up in Brazil, which was then a Portuguese colony. Swahili fishermen of today still rely on the ocean to supply their primary source of income. Fish is sold to their inland neighbors in exchange for products of the inter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rom here in Africa we sailed with ivory, mangrove, coconuts, tortoise and cowrie shells. From Arabia we brought dates, whale oil, carpets, and incense. From India pots, glassware, and cl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gm.nationalgeographic.com/ngm/data/2001/10/01/html/ft_20011001.6.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85EA-B1FC-4386-BD79-2141FEAA05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evidence suggests that Great Zimbabwe became a centre for trading, with artifacts suggesting that the city formed part of a trade network linked to Kilwa and extending as far as China. This international trade, mainly in gold and ivory, was in addition to the local agricultural trade, in which cattle were especially important. The large cattle herd that supplied the city moved seasonally and was managed by the court. Chinese pottery shards, coins from Arabia, glass beads and other non-local items have been excavated at Zimbabwe. Despite these strong international trade links, there is no evidence to suggest exchange of architectural concepts between Great Zimbabwe and centers such as Kilwa.</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E59C-A5BF-4A25-B274-5008603E99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s geographical setting made it a natural meeting point for nearby west African populations and nomadic Berbers and Arab peoples from the north. Its long history as a trading outpost that linked west Africa with Berber, Arab, and Jewish traders throughout north Africa, and thereby indirectly with traders from Europe, has given it a fabled status, and in the West it was for long a metaphor for exotic, distant lands: "from here to Timbuktu."</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imbuktu's long-lasting contribution to Islamic and world civilization is scholarship. Timbuktu is believed to have had one of the first universities in the world. Local scholars and collectors still boast an impressive collection of Ancient greek Texts from that era. By the 14th century, important books were written and copied in Timbuktu, establishing the city as the centre of a significant written tradition in Africa</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treamely important location, being on a river, a lot more trade items could be facilitated and shipped around to their various destination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No name makes people think of ancient Africa better than Timbuktu. Timbuktu was the greatest trading place in sub-Saharan Africa for more than four hundred years. Cities exist for a reason, and Timbuktu was no exception. Timbuktu was located on a bend in the Niger River. Traders mined salt in the desert. Miners would carry the salt to the city where merchants would transport it on the river to faraway plac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imbuktu developed as a trading city, but the wealth of the city attracted others. In time, Timbuktu became well known as a religious and educational site. Mansa Musa built a great mosque, or Islamic temple in Timbuktu. Timbuktu began to decline in influence when the Portuguese showed that it was easier to sail around the coast of Africa than travel through the desert. The city was destroyed by the war between Morocco and Songhai. Today it remains a shadow of its former self, a mud built town of 20,000 people on the edge of the Sahara Deser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A06B-DC7E-4AA7-A513-A1E6C97F98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were the international tradesmen of their time. In Constantinople they traded silk and spices for slaves that they had brought from Russia. Amber they found in the Baltic area. From the north and Greenland in the west, they brought furs, skins and walrus tusk ivory to the trading towns in wester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kings founded trading cities in Scandinavia such as Birka, Ribe, Hedeby and Skiringskal. In Ireland they founded Dublin and in England they made York flourish to become the most important trading town outside of Lond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time when old trade routes between east and west through the Mediterranean were closed or unsafe, the Vikings kept the trade route between Byzantium and the west open by way of Kiev and Rus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graves often contain Arab silver, Byzantine silks, Frankish weapons, Rhenish (from Rheims) glass, and other products of an extensive trade. Silver coins from the caliphate and Anglo-Saxon coins from England flowed into the Viking lands and further stimulated econom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3887-E209-4CF2-82ED-1D07271EA9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sea around which some of the most ancient human civilizations were arranged, it has had a major influence on the history and ways of life of these cultures. It provided a way of trade, colonization and war, and was the basis of life (via fishing and the gathering of other seafood) for numerous communities throughout the 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ation of similarly shared climate, geology and access to a common sea has led to numerous historical and cultural connections between the ancient and modern societies around the Mediterran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terranean Sea was a transport superhighway in ancient times, allowing for trade and cultural exchange between the peoples of the region. It was critical to the development of Western Civilization and brought among others the Greeks, Phoenicians, Carthaginians, and Romans to the area around the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e would not be the Empire that it was if it didn’t have access to the Mediterranean and therefore the ability to trade with all of its areas of influence. Many imperative items bought along the Mediterranean Sea for the survival of R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C84A-DC0B-4BDC-B58B-24EC127880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that trade between Egypt, the Roman Empire, and ancient India was far more noticeable than previously thought. Digs at the ancient Egyptian town of Berenike have produced spices and gem fragments that prove that Indian goods routinely made their way to Egypt. In particular, archaeologists found more than 16 pounds of black peppercorns, a spice found at that time only in 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 position to ship goods down the Red Sea and to Africa or Asia by sea or by land across Egypt to Alexandria, and from there to the rest of the Roman Empire.  </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2CE3-0A9C-4246-AF19-EDAFBF9BA7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read of Islam was important to trading as it allowed fair trade to exist, if you were Islamic, then by Muhammeds will, every transaction must be fair for both sides involved in the transaction otherwise the transaction would not be blessed. Therefore converting to Islam was a way for people to get the most out of their trading de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rchants and traders in West Africa saw many advantages in converting to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spread because belief in Islam requires you to learn the Qur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lims all speak the language of the Quran. Arabic became the common language of the merchants and traders of West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ict Muslims all follow Islamic law. It is easier to solve disputes when both parties agree on the la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 to Islam opened up markets across North Africa and in Ara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796CD-F33D-4375-9407-531A1D63EC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smopolitan nature of Baghdad was evident in its bazaars, which contained goods from all over the known world. There were spices, minerals, and dyes from India; gems and fabrics from Central Asia; honey and wax from Scandinavia and Russia; and ivory and gold dust from Africa. One bazaar in the city specialized in goods from China, including silks, musk, and porcelain. In the slave markets Muslim traders bought and sold Scandinavians, Mongolians from Central Asia, and Afric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stock companies flourished along with branch banking organizations, and checks (an Arabic word) drawn on one bank could be cashed elsewhere in the empire.</a:t>
            </a:r>
            <a:br>
              <a:rPr sz="1200"/>
            </a:br>
            <a:br>
              <a:rPr sz="1200"/>
            </a:br>
            <a:r>
              <a:rPr b="0" lang="en-US" sz="1200" spc="-1" strike="noStrike">
                <a:solidFill>
                  <a:srgbClr val="000000"/>
                </a:solidFill>
                <a:latin typeface="Calibri"/>
              </a:rPr>
              <a:t>Muslim textile industries turned out excellent cottons (muslins) and silks. The steel of Damascus and Toledo, the leather of Cordova, and the glass of Syria became internationally famous. Notable also was the art of papermaking, learned from the Chinese. Under the Abbasids, vast irrigation projects in Iraq increased cultivable land, which yielded large crops of fruits and grains. Wheat came from the Nile valley, cotton from North Africa, olives and wine from Spain, wool from eastern Asia Minor, and horses from Persia.</a:t>
            </a:r>
            <a:br>
              <a:rPr sz="1200"/>
            </a:br>
            <a:br>
              <a:rPr sz="1200"/>
            </a:b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DE03-58C3-4879-9646-2795222B37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hara is a hostile expanse that separates the Mediterranean economy from the economy of the Niger basin. Fernand Braudel((24 August 1902 – 27 November 1985) was a French historian )) pointed out, such a zone, like the Atlantic Ocean, is only worth crossing in exceptional circumstances, when the gain outweighs the loss. However, unlike the Atlantic, the Sahara has always been home to groups of people practicing trade on a local bas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in Islamic times was conducted by caravans of camels. These camels would be fattened for a number of months on the plains of either the Maghreb (Modern day Morocco, Libya, Tunisia, Algeria, or Mauritania) or Sahel (Sahel = the ecology and geographical zone of transition between the Sahara desert in the North and the Sudanian savannas in the south) before being assembled into a carava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avans would be guided by highly paid Berber guides who knew the desert and could ensure safe passage from their fellow desert nomad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rvival of a caravan would be precarious and rely on careful coordination. Runners would be sent ahead to oases so that water could be shipped out to the caravan when it was still several days away, as the caravans could not carry enough with them to make the full journe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ffic in gold was spurred by the demand for and supply of coinage; Salt preserved foods in a time before refrigerators, meaning there was always food; Ivory was valued in markets around the world as it was only found in one place and was quite rare, this was a sign of wealth in other areas of the world, however Ivory was tough enough to also be used as a weapon for African tribes; Pottery was used to store goods including water, food etc.; Spices were valued in Europe after Crusaders were exposed to them in the middle East in c. 1000 CE, increasing the market for spices; Iron goods were later smelted and created into weapons used by Africans to expand and protect trade routes; Camels were the easiest way around the desert and all caravans/traders had aa need for camels and were willing to trade for them; Linens were traded later in the 15</a:t>
            </a:r>
            <a:r>
              <a:rPr b="0" lang="en-US" sz="1200" spc="-1" strike="noStrike" baseline="30000">
                <a:solidFill>
                  <a:srgbClr val="000000"/>
                </a:solidFill>
                <a:latin typeface="Calibri"/>
              </a:rPr>
              <a:t>th</a:t>
            </a:r>
            <a:r>
              <a:rPr b="0" lang="en-US" sz="1200" spc="-1" strike="noStrike">
                <a:solidFill>
                  <a:srgbClr val="000000"/>
                </a:solidFill>
                <a:latin typeface="Calibri"/>
              </a:rPr>
              <a:t> C. CE as the demand increased, so did the trade of these items.</a:t>
            </a:r>
            <a:br>
              <a:rPr sz="1200"/>
            </a:br>
            <a:br>
              <a:rPr sz="1200"/>
            </a:br>
            <a:r>
              <a:rPr b="0" lang="en-US" sz="1200" spc="-1" strike="noStrike">
                <a:solidFill>
                  <a:srgbClr val="000000"/>
                </a:solidFill>
                <a:latin typeface="Calibri"/>
              </a:rPr>
              <a:t>Source: The Trans-Saharan Gold Trade (7th–14th century) | Thematic Essay | Heilbrunn Timeline of Art History | The Metropolitan Museum of Ar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9D2E-F152-4958-BA55-5AA358C799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e route ventured through the city of Asyut as well as the oasis of Kharga on its way down into Sudanese territ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records that this trade route was around as early as the time of the Old Egyptian Kingdom, transport and trade of gold, ivory, spices, wheat, animals and plants. The maximum extent of the Darb el-Arbain was northward from Kobbai, 25 miles north of al-Fashir, passing through the desert, through Bir Natrum and Wadi Howar, and ending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mans aided trade along the Darb el-Arbain with the presence of a chain of fortresses that the Romans built to protect the Darb el-Arbain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d by Herodotus as a road "traversed ... in forty days," the Darb el-Arbain became by his time an important land route facilitating trade between Nubia (later Kush) and Egypt. For this reason, it is sometimes referred to as the Forty Days Road.</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FA98-D250-43DE-AEDF-AA3CD05DB0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east, three ancient routes connected the south to the Mediterranean Sea. The herdsmen of the Fezzan of Libya, known as the Garamantes, controlled these routes as early as 1500 BC. From their capital of Germa in the Wadi Ajal, the Garamantean Empire raided north to the sea and south into the Sahel. By the fourth century BC, the independent city-states of Phoenecia had expanded their control to the territory and routes once held by the Garamantes.</a:t>
            </a:r>
            <a:r>
              <a:rPr b="0" lang="en-US" sz="1200" spc="-1" strike="noStrike" baseline="30000">
                <a:solidFill>
                  <a:srgbClr val="000000"/>
                </a:solidFill>
                <a:latin typeface="Calibri"/>
              </a:rPr>
              <a:t> </a:t>
            </a:r>
            <a:r>
              <a:rPr b="0" lang="en-US" sz="1200" spc="-1" strike="noStrike">
                <a:solidFill>
                  <a:srgbClr val="000000"/>
                </a:solidFill>
                <a:latin typeface="Calibri"/>
              </a:rPr>
              <a:t>It is stated that existing contact with the Mediterranean received added incentive with the growth of the port city of Carthage. Founded c. 800 BCE, Carthage became one terminus for West African gold, ivory, and slaves. West Africa received salt, cloth, beads, and metal goods. This is the trade route is regarded as the source for West African iron smelting. Trade continued into Roman times. Although there are Classical references to direct travel from the Mediterranean to West Africa, most of this trade was conducted through middlemen, inhabiting the area and aware of passages through the drying lands.</a:t>
            </a:r>
            <a:r>
              <a:rPr b="0" lang="en-US" sz="1200" spc="-1" strike="noStrike" baseline="30000">
                <a:solidFill>
                  <a:srgbClr val="000000"/>
                </a:solidFill>
                <a:latin typeface="Calibri"/>
              </a:rPr>
              <a:t> </a:t>
            </a:r>
            <a:r>
              <a:rPr b="0" lang="en-US" sz="1200" spc="-1" strike="noStrike">
                <a:solidFill>
                  <a:srgbClr val="000000"/>
                </a:solidFill>
                <a:latin typeface="Calibri"/>
              </a:rPr>
              <a:t>The Legio III Augusta subsequently secured these routes on behalf of Rome by the first century AD, safeguarding the southern border of the empire for two and half centu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E69A5-5E4D-4A06-B102-92703A20B9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ED1E-4A98-45A9-8E88-DA5E3164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5653-323E-41E0-924F-18B236C1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91E4A-63B7-4F29-B22F-79E380ADA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6084B-CB5F-4A00-929F-B82ACE914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737F-8FA6-4A81-BBA8-0C8C4A512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1D7CF-47BD-47CF-88E0-6FB65549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EC2CC-1429-413D-9A65-753495468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7E542-DC66-47F2-846B-208B62645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C39F-8C97-4CC9-9016-406D2DD1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59ADA-4018-4D54-A3A4-BD1258D6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FC62-B1A5-4439-AED7-C236D27A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0DAA-C63E-44B7-B19F-6E600B226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5ED9-769E-4016-BDC8-A99A15A3C4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de routes assign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aniel Scholl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http://www.silkpaintingpatterns.com/images/silk_road_Map_e.jpg"/>
          <p:cNvPicPr/>
          <p:nvPr/>
        </p:nvPicPr>
        <p:blipFill>
          <a:blip r:embed="rId2"/>
          <a:stretch/>
        </p:blipFill>
        <p:spPr>
          <a:xfrm>
            <a:off x="-22320" y="0"/>
            <a:ext cx="91663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lk Road Trade (map slide 8)</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 Export: China, porcelain, Bronz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rnaments, medicines, Spic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Perfumes, Chinese Invention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Paper, Tea, R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na Import: Gold, Silver, Precious ston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lass items, Hides, Wool,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hunting dogs, Ivory, Turtle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hells, Ceramics, Iron item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irro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an Ocea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Ivory, Iron were all impo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ed cotton, silk and porcel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demand for these exports due to low su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 were easy to reach due to location and favourable winds and ocean cur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go easy to load and unload at c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22160" y="1447920"/>
            <a:ext cx="7772400" cy="1828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REAS OF MAJOR TRADE</a:t>
            </a:r>
            <a:endParaRPr b="0" lang="en-US" sz="4000" spc="-1" strike="noStrike">
              <a:solidFill>
                <a:srgbClr val="000000"/>
              </a:solidFill>
              <a:latin typeface="Calibri"/>
            </a:endParaRPr>
          </a:p>
        </p:txBody>
      </p:sp>
      <p:sp>
        <p:nvSpPr>
          <p:cNvPr id="8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wahili Coast</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ed East, Central and South Africa to Indian/Pacific trade rout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 connected as far as Great Zimbabwe and modern day Democratic Republic of Cong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aves, Ivory major income provide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ency, Pottery, Beads, Spices all</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mported</a:t>
            </a:r>
            <a:endParaRPr b="0" lang="en-US" sz="3200" spc="-1" strike="noStrike">
              <a:solidFill>
                <a:srgbClr val="000000"/>
              </a:solidFill>
              <a:latin typeface="Calibri"/>
            </a:endParaRPr>
          </a:p>
        </p:txBody>
      </p:sp>
      <p:pic>
        <p:nvPicPr>
          <p:cNvPr id="89" name="Picture 2" descr="http://www.mrburnett.net/apworldhistory/maps/africaswahilicoast.bmp"/>
          <p:cNvPicPr/>
          <p:nvPr/>
        </p:nvPicPr>
        <p:blipFill>
          <a:blip r:embed="rId1"/>
          <a:stretch/>
        </p:blipFill>
        <p:spPr>
          <a:xfrm>
            <a:off x="6934320" y="464832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at Zimbabw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ntu people founded Great Zimbabwe on their migration southw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 network linked with China and Kilw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ld, Ivory and Cattle were all believed to have been exported from Great Zimbabw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tery, currency (from Arabia), glass beads all excavated suggesting these goods were impor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2" descr="http://www.metmuseum.org/toah/hg/hg_d_zimb_d2map.jpg"/>
          <p:cNvPicPr/>
          <p:nvPr/>
        </p:nvPicPr>
        <p:blipFill>
          <a:blip r:embed="rId1"/>
          <a:stretch/>
        </p:blipFill>
        <p:spPr>
          <a:xfrm>
            <a:off x="7391520" y="4800600"/>
            <a:ext cx="1752480" cy="205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buktu</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nked West Africa with Berbers, Arab and Jewish tr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Niger Ri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t, Gold expor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remely Wealt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Religious/Education s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king Trad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raded in Constantinople silks and spices for slaves (usually Russian), Amber (from Baltic’s), furs, skins and walrus tusk ivory (from Iceland/Greenland/Norway etc.)</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ounded Scandinavian trading cities of Birka, Ribe, Hedeby, and Skiringskal</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Used Kiev (Ukraine) to open Russian and Byzantine trading goods to Western Europe</a:t>
            </a:r>
            <a:endParaRPr b="0" lang="en-US" sz="3300" spc="-1" strike="noStrike">
              <a:solidFill>
                <a:srgbClr val="000000"/>
              </a:solidFill>
              <a:latin typeface="Calibri"/>
            </a:endParaRPr>
          </a:p>
          <a:p>
            <a:pPr marL="312120" indent="-31212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imulated large economic growth</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terranean Sea</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d a way of trade, Colonization and w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ed Ancient Greeks, Roman, Egyptians, Carthaginians and m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ter connected to Indian Oce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wed for cultural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ical to development of N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renik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stern side of Egyp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pos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 shipped goods he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istributed amongst people (particularly Romans around 100 B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http://t2.gstatic.com/images?q=tbn:ANd9GcRkgNkSIK9GRFM2-z_AO0DQ8V0oCwdMl7YNjXVeN-tdY3c5pShQ"/>
          <p:cNvPicPr/>
          <p:nvPr/>
        </p:nvPicPr>
        <p:blipFill>
          <a:blip r:embed="rId2"/>
          <a:stretch/>
        </p:blipFill>
        <p:spPr>
          <a:xfrm>
            <a:off x="0" y="0"/>
            <a:ext cx="9101160" cy="678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es Of Major Trading Center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200 BCE – 1300 CE Silk Road routes form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750 – 1258 CE Islamic Abbasid Dynas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1000 CE Crusaders acquire goods from middle East, become involved in world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790 – 1070 CE Vikings become international traders, opening Russia to west tr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cle Education, ed. "Saharan Trade." </a:t>
            </a:r>
            <a:r>
              <a:rPr b="0" i="1" lang="en-US" sz="1200" spc="-1" strike="noStrike">
                <a:solidFill>
                  <a:srgbClr val="000000"/>
                </a:solidFill>
                <a:latin typeface="Calibri"/>
              </a:rPr>
              <a:t>LibraryThinkQuest</a:t>
            </a:r>
            <a:r>
              <a:rPr b="0" lang="en-US" sz="1200" spc="-1" strike="noStrike">
                <a:solidFill>
                  <a:srgbClr val="000000"/>
                </a:solidFill>
                <a:latin typeface="Calibri"/>
              </a:rPr>
              <a:t>. Web. 12 Dec. 2010.</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y, By. "The Trans-Saharan Gold Trade (7th–14th Century) | Thematic Essay | Heilbrunn Timeline of Art History | The Metropolitan Museum of Art." </a:t>
            </a:r>
            <a:r>
              <a:rPr b="0" i="1" lang="en-US" sz="1200" spc="-1" strike="noStrike">
                <a:solidFill>
                  <a:srgbClr val="000000"/>
                </a:solidFill>
                <a:latin typeface="Calibri"/>
              </a:rPr>
              <a:t>The Metropolitan Museum of Art, New York: Metmuseum.org</a:t>
            </a:r>
            <a:r>
              <a:rPr b="0" lang="en-US" sz="1200" spc="-1" strike="noStrike">
                <a:solidFill>
                  <a:srgbClr val="000000"/>
                </a:solidFill>
                <a:latin typeface="Calibri"/>
              </a:rPr>
              <a:t>. Web. 12 Dec. 2010. &lt;http://www.metmuseum.org/toah/hd/gold/hd_gold.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onen, Pekka. "Trans Saharan Trade and West African Discovery of the Mediterranean World." </a:t>
            </a:r>
            <a:r>
              <a:rPr b="0" i="1" lang="en-US" sz="1200" spc="-1" strike="noStrike">
                <a:solidFill>
                  <a:srgbClr val="000000"/>
                </a:solidFill>
                <a:latin typeface="Calibri"/>
              </a:rPr>
              <a:t>The Third Nordic Conference on Middle Eastern Studies</a:t>
            </a:r>
            <a:r>
              <a:rPr b="0" lang="en-US" sz="1200" spc="-1" strike="noStrike">
                <a:solidFill>
                  <a:srgbClr val="000000"/>
                </a:solidFill>
                <a:latin typeface="Calibri"/>
              </a:rPr>
              <a:t>. 19-22 June 1995. Web. 12 Dec. 2010.</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Road - Trading Goods." </a:t>
            </a:r>
            <a:r>
              <a:rPr b="0" i="1" lang="en-US" sz="1200" spc="-1" strike="noStrike">
                <a:solidFill>
                  <a:srgbClr val="000000"/>
                </a:solidFill>
                <a:latin typeface="Calibri"/>
              </a:rPr>
              <a:t>Advantour: Tourism in Uzbekistan, Kazakhstan, Kyrgyzstan and Russia : Travel Guides</a:t>
            </a:r>
            <a:r>
              <a:rPr b="0" lang="en-US" sz="1200" spc="-1" strike="noStrike">
                <a:solidFill>
                  <a:srgbClr val="000000"/>
                </a:solidFill>
                <a:latin typeface="Calibri"/>
              </a:rPr>
              <a:t>. Web. 12 Dec. 2010. &lt;http://www.advantour.com/silkroad/goods.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India: Super Trade Center." </a:t>
            </a:r>
            <a:r>
              <a:rPr b="0" i="1" lang="en-US" sz="1200" spc="-1" strike="noStrike">
                <a:solidFill>
                  <a:srgbClr val="000000"/>
                </a:solidFill>
                <a:latin typeface="Calibri"/>
              </a:rPr>
              <a:t>Social Studies for Kids</a:t>
            </a:r>
            <a:r>
              <a:rPr b="0" lang="en-US" sz="1200" spc="-1" strike="noStrike">
                <a:solidFill>
                  <a:srgbClr val="000000"/>
                </a:solidFill>
                <a:latin typeface="Calibri"/>
              </a:rPr>
              <a:t>. Web. 13 Dec. 2010. &lt;http://www.socialstudiesforkids.com/articles/archaeology/ancientindiatrade.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Africa." </a:t>
            </a:r>
            <a:r>
              <a:rPr b="0" i="1" lang="en-US" sz="1200" spc="-1" strike="noStrike">
                <a:solidFill>
                  <a:srgbClr val="000000"/>
                </a:solidFill>
                <a:latin typeface="Calibri"/>
              </a:rPr>
              <a:t>Browse the World at Mrdowling.com</a:t>
            </a:r>
            <a:r>
              <a:rPr b="0" lang="en-US" sz="1200" spc="-1" strike="noStrike">
                <a:solidFill>
                  <a:srgbClr val="000000"/>
                </a:solidFill>
                <a:latin typeface="Calibri"/>
              </a:rPr>
              <a:t>. Web. 13 Dec. 2010. &lt;http://www.mrdowling.com/609-test.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y, By. "Great Zimbabwe (11th–15th Century) | Thematic Essay | Heilbrunn Timeline of Art History | The Metropolitan Museum of Art." </a:t>
            </a:r>
            <a:r>
              <a:rPr b="0" i="1" lang="en-US" sz="1200" spc="-1" strike="noStrike">
                <a:solidFill>
                  <a:srgbClr val="000000"/>
                </a:solidFill>
                <a:latin typeface="Calibri"/>
              </a:rPr>
              <a:t>The Metropolitan Museum of Art, New York: Metmuseum.org</a:t>
            </a:r>
            <a:r>
              <a:rPr b="0" lang="en-US" sz="1200" spc="-1" strike="noStrike">
                <a:solidFill>
                  <a:srgbClr val="000000"/>
                </a:solidFill>
                <a:latin typeface="Calibri"/>
              </a:rPr>
              <a:t>. Web. 13 Dec. 2010. &lt;http://www.metmuseum.org/toah/hd/zimb/hd_zimb.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uto, By Robert. "Swahili Coast @ Nationalgeographic.com." </a:t>
            </a:r>
            <a:r>
              <a:rPr b="0" i="1" lang="en-US" sz="1200" spc="-1" strike="noStrike">
                <a:solidFill>
                  <a:srgbClr val="000000"/>
                </a:solidFill>
                <a:latin typeface="Calibri"/>
              </a:rPr>
              <a:t>National Geographic Magazine</a:t>
            </a:r>
            <a:r>
              <a:rPr b="0" lang="en-US" sz="1200" spc="-1" strike="noStrike">
                <a:solidFill>
                  <a:srgbClr val="000000"/>
                </a:solidFill>
                <a:latin typeface="Calibri"/>
              </a:rPr>
              <a:t>. Web. 14 Dec. 2010. &lt;http://ngm.nationalgeographic.com/ngm/data/2001/10/01/html/ft_20011001.6.html&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Abbasid Caliphate and Fragmentation, 786 to 1194.jpg - QED." </a:t>
            </a:r>
            <a:r>
              <a:rPr b="0" i="1" lang="en-US" sz="1200" spc="-1" strike="noStrike">
                <a:solidFill>
                  <a:srgbClr val="000000"/>
                </a:solidFill>
                <a:latin typeface="Calibri"/>
              </a:rPr>
              <a:t>Main Page - QED</a:t>
            </a:r>
            <a:r>
              <a:rPr b="0" lang="en-US" sz="1200" spc="-1" strike="noStrike">
                <a:solidFill>
                  <a:srgbClr val="000000"/>
                </a:solidFill>
                <a:latin typeface="Calibri"/>
              </a:rPr>
              <a:t>. Web. 14 Dec. 2010. &lt;https://qed.princeton.edu/index.php/User:Student/Abbasid_Caliphate_and_fragmentation,_786_to_1194&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Trade." </a:t>
            </a:r>
            <a:r>
              <a:rPr b="0" i="1" lang="en-US" sz="1200" spc="-1" strike="noStrike">
                <a:solidFill>
                  <a:srgbClr val="000000"/>
                </a:solidFill>
                <a:latin typeface="Calibri"/>
              </a:rPr>
              <a:t>The Viking Network</a:t>
            </a:r>
            <a:r>
              <a:rPr b="0" lang="en-US" sz="1200" spc="-1" strike="noStrike">
                <a:solidFill>
                  <a:srgbClr val="000000"/>
                </a:solidFill>
                <a:latin typeface="Calibri"/>
              </a:rPr>
              <a:t>. Web. 14 Dec. 2010. &lt;http://www.viking.no/e/travels/etrade.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 Abbasids, Zenith Of Islamic Civilization." </a:t>
            </a:r>
            <a:r>
              <a:rPr b="0" i="1" lang="en-US" sz="1200" spc="-1" strike="noStrike">
                <a:solidFill>
                  <a:srgbClr val="000000"/>
                </a:solidFill>
                <a:latin typeface="Calibri"/>
              </a:rPr>
              <a:t>Google</a:t>
            </a:r>
            <a:r>
              <a:rPr b="0" lang="en-US" sz="1200" spc="-1" strike="noStrike">
                <a:solidFill>
                  <a:srgbClr val="000000"/>
                </a:solidFill>
                <a:latin typeface="Calibri"/>
              </a:rPr>
              <a:t>. Web. 14 Dec. 2010. &lt;http://webcache.googleusercontent.com/search?q=cache:MMpryfWG27gJ:history-world.org/islam9.htm Abbasid dynasty trade&amp;cd=1&amp;hl=en&amp;ct=clnk&amp;gl=ca&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 Ocean Trade: Outreach Program." </a:t>
            </a:r>
            <a:r>
              <a:rPr b="0" i="1" lang="en-US" sz="1200" spc="-1" strike="noStrike">
                <a:solidFill>
                  <a:srgbClr val="000000"/>
                </a:solidFill>
                <a:latin typeface="Calibri"/>
              </a:rPr>
              <a:t>Boston University</a:t>
            </a:r>
            <a:r>
              <a:rPr b="0" lang="en-US" sz="1200" spc="-1" strike="noStrike">
                <a:solidFill>
                  <a:srgbClr val="000000"/>
                </a:solidFill>
                <a:latin typeface="Calibri"/>
              </a:rPr>
              <a:t>. Web. 15 Dec. 2010. &lt;http://www.bu.edu/africa/outreach/materials/handouts/indian.html&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History: The Abbasid Dynasty - ReligionFacts." </a:t>
            </a:r>
            <a:r>
              <a:rPr b="0" i="1" lang="en-US" sz="1200" spc="-1" strike="noStrike">
                <a:solidFill>
                  <a:srgbClr val="000000"/>
                </a:solidFill>
                <a:latin typeface="Calibri"/>
              </a:rPr>
              <a:t>Religion, World Religions, Comparative Religion - Just the Facts on the World's Religions.</a:t>
            </a:r>
            <a:r>
              <a:rPr b="0" lang="en-US" sz="1200" spc="-1" strike="noStrike">
                <a:solidFill>
                  <a:srgbClr val="000000"/>
                </a:solidFill>
                <a:latin typeface="Calibri"/>
              </a:rPr>
              <a:t> Web. 15 Dec. 2010. &lt;http://www.religionfacts.com/islam/history/abbasid.htm&gt;.</a:t>
            </a:r>
            <a:endParaRPr b="0" lang="en-US" sz="1200" spc="-1" strike="noStrike">
              <a:solidFill>
                <a:srgbClr val="000000"/>
              </a:solidFill>
              <a:latin typeface="Calibri"/>
            </a:endParaRPr>
          </a:p>
          <a:p>
            <a:pPr marL="329040" indent="-3290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diterranean Sea and The Gulf of Lyon." </a:t>
            </a:r>
            <a:r>
              <a:rPr b="0" i="1" lang="en-US" sz="1200" spc="-1" strike="noStrike">
                <a:solidFill>
                  <a:srgbClr val="000000"/>
                </a:solidFill>
                <a:latin typeface="Calibri"/>
              </a:rPr>
              <a:t>Languedoc Weather, Property, Holidays, Naturist Beaches, Wines, and Cathar Castles in the Languedoc-Roussillon, South of France</a:t>
            </a:r>
            <a:r>
              <a:rPr b="0" lang="en-US" sz="1200" spc="-1" strike="noStrike">
                <a:solidFill>
                  <a:srgbClr val="000000"/>
                </a:solidFill>
                <a:latin typeface="Calibri"/>
              </a:rPr>
              <a:t>. Web. 15 Dec. 2010. &lt;http://www.languedoc-france.info/0716_mediterranean.htm&gt;.</a:t>
            </a:r>
            <a:endParaRPr b="0" lang="en-US" sz="1200" spc="-1" strike="noStrike">
              <a:solidFill>
                <a:srgbClr val="000000"/>
              </a:solidFill>
              <a:latin typeface="Calibri"/>
            </a:endParaRPr>
          </a:p>
          <a:p>
            <a:pPr marL="329040" indent="-3290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29040" indent="-3290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Picture 2" descr="http://exploringafrica.matrix.msu.edu/images/ancientafrhist.jpg"/>
          <p:cNvPicPr/>
          <p:nvPr/>
        </p:nvPicPr>
        <p:blipFill>
          <a:blip r:embed="rId2"/>
          <a:stretch/>
        </p:blipFill>
        <p:spPr>
          <a:xfrm>
            <a:off x="0" y="-152280"/>
            <a:ext cx="9144000" cy="70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7" name="" descr=""/>
          <p:cNvPicPr/>
          <p:nvPr/>
        </p:nvPicPr>
        <p:blipFill>
          <a:blip r:embed="rId1"/>
          <a:stretch/>
        </p:blipFill>
        <p:spPr>
          <a:xfrm>
            <a:off x="457200" y="1600200"/>
            <a:ext cx="8229600" cy="4525920"/>
          </a:xfrm>
          <a:prstGeom prst="rect">
            <a:avLst/>
          </a:prstGeom>
          <a:ln w="0">
            <a:noFill/>
          </a:ln>
        </p:spPr>
      </p:pic>
      <p:pic>
        <p:nvPicPr>
          <p:cNvPr id="58" name="Picture 2" descr="https://qed.princeton.edu/images/8/8c/Abbasid_Caliphate_and_fragmentation,_786_to_1194.jpg"/>
          <p:cNvPicPr/>
          <p:nvPr/>
        </p:nvPicPr>
        <p:blipFill>
          <a:blip r:embed="rId2"/>
          <a:stretch/>
        </p:blipFill>
        <p:spPr>
          <a:xfrm>
            <a:off x="0" y="0"/>
            <a:ext cx="9144000" cy="6858000"/>
          </a:xfrm>
          <a:prstGeom prst="rect">
            <a:avLst/>
          </a:prstGeom>
          <a:ln w="0">
            <a:noFill/>
          </a:ln>
        </p:spPr>
      </p:pic>
      <p:sp>
        <p:nvSpPr>
          <p:cNvPr id="59" name="TextBox 4"/>
          <p:cNvSpPr/>
          <p:nvPr/>
        </p:nvSpPr>
        <p:spPr>
          <a:xfrm>
            <a:off x="228600" y="152280"/>
            <a:ext cx="876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basid dynasty circa 786 – 1194 CE(Ma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basid Dynasty</a:t>
            </a:r>
            <a:endParaRPr b="0" lang="en-US" sz="4400" spc="-1" strike="noStrike">
              <a:solidFill>
                <a:srgbClr val="000000"/>
              </a:solidFill>
              <a:latin typeface="Calibri"/>
            </a:endParaRPr>
          </a:p>
        </p:txBody>
      </p:sp>
      <p:sp>
        <p:nvSpPr>
          <p:cNvPr id="61" name=""/>
          <p:cNvSpPr txBox="1"/>
          <p:nvPr/>
        </p:nvSpPr>
        <p:spPr>
          <a:xfrm>
            <a:off x="457200" y="1600200"/>
            <a:ext cx="8229600" cy="4572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Baghdad, Cairo and Cordoba to stimulate trade and industry throughout the Islamic world</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paper using Chinese method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d concept of Cheque (American Spelling, Originally Check)</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zaars held goods from around the world for sal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demand for materials within the Islamic empire, such as iron, leather and glass</a:t>
            </a:r>
            <a:endParaRPr b="0" lang="en-US" sz="32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 Saharan Trad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siders rarely traded within the Sahara in early yea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Locals used these North-West trade routes to sustain their cultur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avans of Islamic trad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b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ED: GOLD, SALT, IVORY, POTTERY, SPICE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IRON GOODS, CAMELS, LIN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 descr=""/>
          <p:cNvPicPr/>
          <p:nvPr/>
        </p:nvPicPr>
        <p:blipFill>
          <a:blip r:embed="rId1"/>
          <a:stretch/>
        </p:blipFill>
        <p:spPr>
          <a:xfrm>
            <a:off x="457200" y="1600200"/>
            <a:ext cx="8229600" cy="4525920"/>
          </a:xfrm>
          <a:prstGeom prst="rect">
            <a:avLst/>
          </a:prstGeom>
          <a:ln w="0">
            <a:noFill/>
          </a:ln>
        </p:spPr>
      </p:pic>
      <p:pic>
        <p:nvPicPr>
          <p:cNvPr id="66" name="Picture 2" descr="http://wpcontent.answcdn.com/wikipedia/commons/thumb/b/b7/Niger_saharan_medieval_trade_routes.PNG/750px-Niger_saharan_medieval_trade_routes.PNG"/>
          <p:cNvPicPr/>
          <p:nvPr/>
        </p:nvPicPr>
        <p:blipFill>
          <a:blip r:embed="rId2"/>
          <a:stretch/>
        </p:blipFill>
        <p:spPr>
          <a:xfrm>
            <a:off x="0" y="0"/>
            <a:ext cx="9144000" cy="6477120"/>
          </a:xfrm>
          <a:prstGeom prst="rect">
            <a:avLst/>
          </a:prstGeom>
          <a:ln w="0">
            <a:noFill/>
          </a:ln>
        </p:spPr>
      </p:pic>
      <p:sp>
        <p:nvSpPr>
          <p:cNvPr id="67" name="TextBox 4"/>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haran trade routes circa 1400, with the modern territory of Niger highlight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rb el-Arbain Trade Route</a:t>
            </a:r>
            <a:endParaRPr b="0" lang="en-US" sz="4400" spc="-1" strike="noStrike">
              <a:solidFill>
                <a:srgbClr val="000000"/>
              </a:solidFill>
              <a:latin typeface="Calibri"/>
            </a:endParaRPr>
          </a:p>
        </p:txBody>
      </p:sp>
      <p:pic>
        <p:nvPicPr>
          <p:cNvPr id="69" name="Content Placeholder 2" descr=""/>
          <p:cNvPicPr/>
          <p:nvPr/>
        </p:nvPicPr>
        <p:blipFill>
          <a:blip r:embed="rId1"/>
          <a:stretch/>
        </p:blipFill>
        <p:spPr>
          <a:xfrm>
            <a:off x="317520" y="1517760"/>
            <a:ext cx="8375760" cy="4614840"/>
          </a:xfrm>
          <a:prstGeom prst="rect">
            <a:avLst/>
          </a:prstGeom>
          <a:ln w="0">
            <a:noFill/>
          </a:ln>
        </p:spPr>
      </p:pic>
      <p:pic>
        <p:nvPicPr>
          <p:cNvPr id="70" name="Picture 2" descr="http://wpcontent.answcdn.com/wikipedia/commons/thumb/8/83/Egypt-region-map-cities-2.gif/250px-Egypt-region-map-cities-2.gif"/>
          <p:cNvPicPr/>
          <p:nvPr/>
        </p:nvPicPr>
        <p:blipFill>
          <a:blip r:embed="rId2"/>
          <a:stretch/>
        </p:blipFill>
        <p:spPr>
          <a:xfrm>
            <a:off x="6762600" y="3990960"/>
            <a:ext cx="2381400" cy="2867040"/>
          </a:xfrm>
          <a:prstGeom prst="rect">
            <a:avLst/>
          </a:prstGeom>
          <a:ln w="0">
            <a:noFill/>
          </a:ln>
        </p:spPr>
      </p:pic>
      <p:sp>
        <p:nvSpPr>
          <p:cNvPr id="71" name="5-Point Star 4"/>
          <p:cNvSpPr/>
          <p:nvPr/>
        </p:nvSpPr>
        <p:spPr>
          <a:xfrm>
            <a:off x="7924680" y="5715000"/>
            <a:ext cx="76320" cy="76320"/>
          </a:xfrm>
          <a:custGeom>
            <a:avLst/>
            <a:gdLst>
              <a:gd name="textAreaLeft" fmla="*/ 23400 w 76320"/>
              <a:gd name="textAreaRight" fmla="*/ 52920 w 76320"/>
              <a:gd name="textAreaTop" fmla="*/ 29160 h 76320"/>
              <a:gd name="textAreaBottom" fmla="*/ 58320 h 7632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f79646"/>
          </a:solidFill>
          <a:ln w="25560">
            <a:solidFill>
              <a:srgbClr val="b66d31"/>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72" name="5-Point Star 5"/>
          <p:cNvSpPr/>
          <p:nvPr/>
        </p:nvSpPr>
        <p:spPr>
          <a:xfrm>
            <a:off x="8077320" y="5334120"/>
            <a:ext cx="152280" cy="75960"/>
          </a:xfrm>
          <a:custGeom>
            <a:avLst/>
            <a:gdLst>
              <a:gd name="textAreaLeft" fmla="*/ 47160 w 152280"/>
              <a:gd name="textAreaRight" fmla="*/ 105120 w 152280"/>
              <a:gd name="textAreaTop" fmla="*/ 28800 h 75960"/>
              <a:gd name="textAreaBottom" fmla="*/ 57960 h 75960"/>
            </a:gdLst>
            <a:ahLst/>
            <a:rect l="textAreaLeft" t="textAreaTop" r="textAreaRight" b="textAreaBottom"/>
            <a:pathLst>
              <a:path w="152400" h="76200">
                <a:moveTo>
                  <a:pt x="0" y="29106"/>
                </a:moveTo>
                <a:lnTo>
                  <a:pt x="58212" y="29106"/>
                </a:lnTo>
                <a:lnTo>
                  <a:pt x="76200" y="0"/>
                </a:lnTo>
                <a:lnTo>
                  <a:pt x="94188" y="29106"/>
                </a:lnTo>
                <a:lnTo>
                  <a:pt x="152400" y="29106"/>
                </a:lnTo>
                <a:lnTo>
                  <a:pt x="105305" y="47094"/>
                </a:lnTo>
                <a:lnTo>
                  <a:pt x="123294" y="76200"/>
                </a:lnTo>
                <a:lnTo>
                  <a:pt x="76200" y="58211"/>
                </a:lnTo>
                <a:lnTo>
                  <a:pt x="29106" y="76200"/>
                </a:lnTo>
                <a:lnTo>
                  <a:pt x="47095" y="47094"/>
                </a:lnTo>
                <a:close/>
              </a:path>
            </a:pathLst>
          </a:custGeom>
          <a:solidFill>
            <a:srgbClr val="f79646"/>
          </a:solidFill>
          <a:ln w="25560">
            <a:solidFill>
              <a:srgbClr val="b66d31"/>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cxnSp>
        <p:nvCxnSpPr>
          <p:cNvPr id="73" name="Straight Arrow Connector 7"/>
          <p:cNvCxnSpPr>
            <a:stCxn id="72" idx="2"/>
            <a:endCxn id="71" idx="4"/>
          </p:cNvCxnSpPr>
          <p:nvPr/>
        </p:nvCxnSpPr>
        <p:spPr>
          <a:xfrm flipH="1">
            <a:off x="8000280" y="5410080"/>
            <a:ext cx="105480" cy="334080"/>
          </a:xfrm>
          <a:prstGeom prst="straightConnector1">
            <a:avLst/>
          </a:prstGeom>
          <a:ln w="9360">
            <a:solidFill>
              <a:srgbClr val="4a7ebb"/>
            </a:solidFill>
            <a:miter/>
            <a:tailEnd len="med" type="arrow" w="med"/>
          </a:ln>
        </p:spPr>
      </p:cxnSp>
      <p:cxnSp>
        <p:nvCxnSpPr>
          <p:cNvPr id="74" name="Straight Arrow Connector 9"/>
          <p:cNvCxnSpPr>
            <a:stCxn id="71" idx="3"/>
          </p:cNvCxnSpPr>
          <p:nvPr/>
        </p:nvCxnSpPr>
        <p:spPr>
          <a:xfrm flipH="1">
            <a:off x="7953120" y="5790960"/>
            <a:ext cx="33840" cy="1067400"/>
          </a:xfrm>
          <a:prstGeom prst="straightConnector1">
            <a:avLst/>
          </a:prstGeom>
          <a:ln w="9360">
            <a:solidFill>
              <a:srgbClr val="4a7ebb"/>
            </a:solidFill>
            <a:miter/>
            <a:tailEnd len="med" type="arrow" w="med"/>
          </a:ln>
        </p:spPr>
      </p:cxnSp>
      <p:cxnSp>
        <p:nvCxnSpPr>
          <p:cNvPr id="75" name="Straight Arrow Connector 11"/>
          <p:cNvCxnSpPr>
            <a:stCxn id="71" idx="2"/>
          </p:cNvCxnSpPr>
          <p:nvPr/>
        </p:nvCxnSpPr>
        <p:spPr>
          <a:xfrm flipH="1">
            <a:off x="7238160" y="5791320"/>
            <a:ext cx="700920" cy="9151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 Routes Focused around Carthage </a:t>
            </a:r>
            <a:endParaRPr b="0" lang="en-US" sz="40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amantes ----</a:t>
            </a:r>
            <a:r>
              <a:rPr b="0" lang="en-US" sz="3200" spc="-1" strike="noStrike">
                <a:solidFill>
                  <a:srgbClr val="000000"/>
                </a:solidFill>
                <a:latin typeface="Wingdings"/>
                <a:ea typeface="Wingdings"/>
              </a:rPr>
              <a:t></a:t>
            </a:r>
            <a:r>
              <a:rPr b="0" lang="en-US" sz="3200" spc="-1" strike="noStrike">
                <a:solidFill>
                  <a:srgbClr val="000000"/>
                </a:solidFill>
                <a:latin typeface="Calibri"/>
              </a:rPr>
              <a:t> c.15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enecia-------</a:t>
            </a:r>
            <a:r>
              <a:rPr b="0" lang="en-US" sz="3200" spc="-1" strike="noStrike">
                <a:solidFill>
                  <a:srgbClr val="000000"/>
                </a:solidFill>
                <a:latin typeface="Wingdings"/>
                <a:ea typeface="Wingdings"/>
              </a:rPr>
              <a:t></a:t>
            </a:r>
            <a:r>
              <a:rPr b="0" lang="en-US" sz="3200" spc="-1" strike="noStrike">
                <a:solidFill>
                  <a:srgbClr val="000000"/>
                </a:solidFill>
                <a:latin typeface="Calibri"/>
              </a:rPr>
              <a:t>  c. 400 B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thage (founded c. 800 B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ddle men conducted t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ED: SALT, CLOTH, BEADS, METAL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GO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RTED: GOLD (West African), IVORY,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LA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2T18:08:55Z</dcterms:created>
  <dc:creator>Owner</dc:creator>
  <dc:description/>
  <dc:language>en-US</dc:language>
  <cp:lastModifiedBy>Owner</cp:lastModifiedBy>
  <dcterms:modified xsi:type="dcterms:W3CDTF">2011-01-16T17:39:34Z</dcterms:modified>
  <cp:revision>48</cp:revision>
  <dc:subject/>
  <dc:title>Trade routes assignment</dc:title>
</cp:coreProperties>
</file>